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230-7895-4557-B4EB-762E91CA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7B8-620C-42A0-BE6D-A7C22533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8FA-0DE4-41D6-B68F-768D1211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B6F0-AE38-4CF0-AF4A-CA9AD5DB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6419-F4DB-4897-BFB1-C6828019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E9B6-B767-4A1E-ADDC-E258BB37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FAFB-50A1-4BEB-B3C6-4581557A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FC60-C39E-49D2-9602-E498EF5A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BFB3-6961-445F-93ED-2A236A58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0462-21FB-4BD8-808A-38306756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A179-DE20-4D74-ABE7-2F2F9E9D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3897-F4DB-4CAE-8DBF-3AE55398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BBF8-E60D-4D65-9F78-D7A0A987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80EB-72D0-43AF-8389-27DCC07E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9680-5C4C-4E79-81BB-4B78DA58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C39F-5054-4270-87D5-6151AD54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8C30-F8CD-40E9-BB2B-3ABCB989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923-3B37-4FFE-91C6-4FA27CD8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BE2B-C1ED-40AE-8D70-19CE13B5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2525-D4A5-4BF2-898F-3AC13B34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8C5A-CEDA-4F31-B3DF-4A1A7375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E5C-5601-4458-80C9-B782D479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954-7FE2-4F02-BFA5-1CB39307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037-A350-4D76-A638-8CF4446E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061E-E5BF-42DD-8974-D708996C64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82A5-D6A3-4789-8AAC-03CD6E0A67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838080"/>
            <a:ext cx="2741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erlin Sans FB"/>
              </a:rPr>
              <a:t>Curiosity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1981080"/>
            <a:ext cx="5181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Curiosity must be kept alive. One must never, for whatever reason, turn his back on life.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-Eleanor Roosevel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0006-IMG_6759ed11x14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443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oton Area School District</cp:lastModifiedBy>
  <dcterms:modified xsi:type="dcterms:W3CDTF">2010-05-04T16:19:26Z</dcterms:modified>
  <cp:revision>1</cp:revision>
  <dc:subject/>
  <dc:title>PowerPoint Presentation</dc:title>
</cp:coreProperties>
</file>